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7BB-44E1-4288-B5D2-EE8474EA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3C2-4A81-444E-AFB4-86D3808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4C7-A008-4D28-BFA3-55C81B2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09E-D557-460D-B9A3-BBBE98BA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C65-EBA8-467E-A793-D8E0A1D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D75-6C0D-48A9-8167-50AFB05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499-2DF0-4A5C-8CC1-7228F334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10D-EDAE-4AB4-8A95-7CF58DCE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F2E-F4A6-46C6-9E81-6A569B3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196-1493-437A-A58B-521DBE3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F0C-6092-47F2-89C8-8D6B392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2E4-1BD4-4AB2-BA1B-BED1B09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1F5-B0BA-43AF-B385-78C145B21E5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1 Pole sveta podľa Slo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le sveta podľa Sl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k žatve dozr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ýzva tvoja, Pane, zn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práci žencom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poslov svojej zv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v srdciach viery p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om svätej horli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čeliť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dar zástup svojich ženc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ou Ducha z výs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ich službu lásky ve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meníš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38:29Z</dcterms:modified>
  <cp:revision>45</cp:revision>
  <dc:subject/>
  <dc:title>Je veľký náš Pán, on slávy je Kráľ Nech do všetkých strán  spev vrúcnych znie chvál.</dc:title>
</cp:coreProperties>
</file>